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4BF5F-B068-4B23-8CA4-280452D64AF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909CA-5A51-4B20-A993-F3B0008EB7FE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0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C1B0B-349C-439D-9618-00CE784C094E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0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963BE-61DB-48F7-9599-5DC6082958BA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0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CAF34-B42A-486E-AAED-57324F39DE07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0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FA11C-D8A2-450D-A129-CD1B8AB63C19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F8771A-4EAE-400D-A5CB-1D69DFA5C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405BC0-92DB-405A-BDC1-308E13CF1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B0F2A9-A1BD-4118-9F20-301C9E330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F82056-28FE-4A75-92AC-DF6EB1F3E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37DF37-6CF4-47AD-ADCE-E3522D158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5ABE1E-AB70-4278-811D-BF6F64519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A49689-2357-4AED-A390-9970A508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E56F9D-2E08-42D9-8292-ED622176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A6DA53-FF75-462B-AFD4-AEC83E02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803616-01C6-4971-A580-7CE148B4C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3FDD87-4442-4665-86F7-AF24FF13B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64FFEC-CC5E-4CDA-ADCF-17E69061F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FCD11A-36F9-4497-82D5-AE3BC08E1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6E9C1B-CF2D-49C3-9E38-B63FB6D7B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99993D-84DF-4D16-B472-624F9A487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6F4433-BA39-4427-8842-9C8984F54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8176E7-13FA-4213-86E0-AD8E0DB7C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374B43-0538-42A2-A135-E6C8CD685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836373-2241-4350-A643-F2F39ABC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6E4F53-C977-46BA-9736-3B7C0CEE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0136F5-7A56-47AC-92DE-9D311503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97AA3E-8DAA-4030-A3B7-3F30FF1DE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077689-4935-47C0-BC8D-8FD20372A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6B59A6-8D9D-4FB3-85CA-6DC371889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97B06-49F3-4289-8F76-611B1719F841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693FC-5A5F-4126-80C0-F77C8D0473B2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D1D5A-A1B0-44CD-988B-72F77CF9A388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C70BB-C358-40E3-800C-B2AD06C635DD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952DA-BF57-4313-8DBB-4CCBA0863020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65675-A2C1-4FE3-A8A3-762BBF397A8A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3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3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3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4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4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1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5D9A7-409A-4081-9407-20684FAC74B2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354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5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6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57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8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9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60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61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2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3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5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66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67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459F3-734A-4D1D-9359-EF8CCABA096E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1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1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1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1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2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2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2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DB9DD-F26A-4EAC-A85A-CB3C8083710A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4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1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7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8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8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8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8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8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4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9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36BD9-9E40-4687-B4E6-9FAFB79C631D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7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98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1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8000" y="504720"/>
            <a:ext cx="9036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3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부 노인복지 정책 및 실천</a:t>
            </a:r>
            <a:endParaRPr b="0" lang="en-US" sz="43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46" name="Picture 4" descr="그림1"/>
          <p:cNvPicPr/>
          <p:nvPr/>
        </p:nvPicPr>
        <p:blipFill>
          <a:blip r:embed="rId1"/>
          <a:stretch/>
        </p:blipFill>
        <p:spPr>
          <a:xfrm>
            <a:off x="-42840" y="2189160"/>
            <a:ext cx="9302760" cy="223056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28760" y="2857680"/>
            <a:ext cx="850104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HY강B"/>
                <a:ea typeface="HY강B"/>
              </a:rPr>
              <a:t>10</a:t>
            </a:r>
            <a:r>
              <a:rPr b="1" lang="ko-KR" sz="3800" spc="-1" strike="noStrike">
                <a:solidFill>
                  <a:srgbClr val="ffff00"/>
                </a:solidFill>
                <a:latin typeface="HY강B"/>
                <a:ea typeface="HY강B"/>
              </a:rPr>
              <a:t>장 노인복지와 노인복지정책</a:t>
            </a:r>
            <a:endParaRPr b="0" lang="en-US" sz="38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1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현행 노인복지정책과 서비스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2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 프로그램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실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3" name="그룹 17"/>
          <p:cNvGrpSpPr/>
          <p:nvPr/>
        </p:nvGrpSpPr>
        <p:grpSpPr>
          <a:xfrm>
            <a:off x="285840" y="208080"/>
            <a:ext cx="8858160" cy="6149880"/>
            <a:chOff x="285840" y="208080"/>
            <a:chExt cx="8858160" cy="6149880"/>
          </a:xfrm>
        </p:grpSpPr>
        <p:grpSp>
          <p:nvGrpSpPr>
            <p:cNvPr id="644" name="그룹 17"/>
            <p:cNvGrpSpPr/>
            <p:nvPr/>
          </p:nvGrpSpPr>
          <p:grpSpPr>
            <a:xfrm>
              <a:off x="285840" y="208080"/>
              <a:ext cx="8715600" cy="2143080"/>
              <a:chOff x="285840" y="208080"/>
              <a:chExt cx="8715600" cy="2143080"/>
            </a:xfrm>
          </p:grpSpPr>
          <p:sp>
            <p:nvSpPr>
              <p:cNvPr id="645" name="AutoShape 2"/>
              <p:cNvSpPr/>
              <p:nvPr/>
            </p:nvSpPr>
            <p:spPr>
              <a:xfrm>
                <a:off x="285840" y="518760"/>
                <a:ext cx="8715600" cy="18324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646" name="그룹 10"/>
              <p:cNvGrpSpPr/>
              <p:nvPr/>
            </p:nvGrpSpPr>
            <p:grpSpPr>
              <a:xfrm>
                <a:off x="285840" y="208080"/>
                <a:ext cx="8715600" cy="2135520"/>
                <a:chOff x="285840" y="208080"/>
                <a:chExt cx="8715600" cy="2135520"/>
              </a:xfrm>
            </p:grpSpPr>
            <p:sp>
              <p:nvSpPr>
                <p:cNvPr id="647" name="AutoShape 4"/>
                <p:cNvSpPr/>
                <p:nvPr/>
              </p:nvSpPr>
              <p:spPr>
                <a:xfrm>
                  <a:off x="357120" y="208080"/>
                  <a:ext cx="3816360" cy="3571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  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3) 1960-1970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년대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648" name="Text Box 6"/>
                <p:cNvSpPr/>
                <p:nvPr/>
              </p:nvSpPr>
              <p:spPr>
                <a:xfrm>
                  <a:off x="285840" y="636480"/>
                  <a:ext cx="8715600" cy="170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960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년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생활보호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61)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공무원연금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62)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군인연금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보장에 관한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법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63)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등 제정으로 사회보장 기틀을 마련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그러나 경제발전논리에 밀려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 발전 못함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970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년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문제가 사회적 관심을 얻게 되지만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생계보호수준에 그치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경로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효친사상 앙양을 강조하여 가족에 의한 노인부양 유도 노력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49" name="그룹 18"/>
            <p:cNvGrpSpPr/>
            <p:nvPr/>
          </p:nvGrpSpPr>
          <p:grpSpPr>
            <a:xfrm>
              <a:off x="285840" y="2500200"/>
              <a:ext cx="8858160" cy="1587240"/>
              <a:chOff x="285840" y="2500200"/>
              <a:chExt cx="8858160" cy="1587240"/>
            </a:xfrm>
          </p:grpSpPr>
          <p:sp>
            <p:nvSpPr>
              <p:cNvPr id="650" name="AutoShape 2"/>
              <p:cNvSpPr/>
              <p:nvPr/>
            </p:nvSpPr>
            <p:spPr>
              <a:xfrm>
                <a:off x="285840" y="2810880"/>
                <a:ext cx="8715600" cy="1276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651" name="그룹 10"/>
              <p:cNvGrpSpPr/>
              <p:nvPr/>
            </p:nvGrpSpPr>
            <p:grpSpPr>
              <a:xfrm>
                <a:off x="285840" y="2500200"/>
                <a:ext cx="8858160" cy="1536120"/>
                <a:chOff x="285840" y="2500200"/>
                <a:chExt cx="8858160" cy="1536120"/>
              </a:xfrm>
            </p:grpSpPr>
            <p:sp>
              <p:nvSpPr>
                <p:cNvPr id="652" name="AutoShape 4"/>
                <p:cNvSpPr/>
                <p:nvPr/>
              </p:nvSpPr>
              <p:spPr>
                <a:xfrm>
                  <a:off x="357120" y="2500200"/>
                  <a:ext cx="3816360" cy="3571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  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4) 1980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년대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653" name="Text Box 6"/>
                <p:cNvSpPr/>
                <p:nvPr/>
              </p:nvSpPr>
              <p:spPr>
                <a:xfrm>
                  <a:off x="285840" y="2928960"/>
                  <a:ext cx="8858160" cy="110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제도 기반의 확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법 제정과 개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법의 한계와 가족부양을 강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경로우대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경로헌장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능력은행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무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건강진단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공동작업장 운영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54" name="AutoShape 2"/>
            <p:cNvSpPr/>
            <p:nvPr/>
          </p:nvSpPr>
          <p:spPr>
            <a:xfrm>
              <a:off x="285840" y="4500720"/>
              <a:ext cx="8715600" cy="185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55" name="그룹 10"/>
            <p:cNvGrpSpPr/>
            <p:nvPr/>
          </p:nvGrpSpPr>
          <p:grpSpPr>
            <a:xfrm>
              <a:off x="285840" y="4199040"/>
              <a:ext cx="8858160" cy="2143800"/>
              <a:chOff x="285840" y="4199040"/>
              <a:chExt cx="8858160" cy="2143800"/>
            </a:xfrm>
          </p:grpSpPr>
          <p:sp>
            <p:nvSpPr>
              <p:cNvPr id="656" name="AutoShape 4"/>
              <p:cNvSpPr/>
              <p:nvPr/>
            </p:nvSpPr>
            <p:spPr>
              <a:xfrm>
                <a:off x="357120" y="4199040"/>
                <a:ext cx="3816360" cy="360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  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5) 1990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년대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57" name="Text Box 6"/>
              <p:cNvSpPr/>
              <p:nvPr/>
            </p:nvSpPr>
            <p:spPr>
              <a:xfrm>
                <a:off x="285840" y="4572000"/>
                <a:ext cx="8858160" cy="177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9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확대발전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료노인복지시설 개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업참여 허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93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사업 확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전달체계 확대 개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서비스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체제 완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9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대 후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건의 통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역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가서비스 강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공급주체 다양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예방 강화를 추진하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제서비스와 괴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AutoShape 2"/>
          <p:cNvSpPr/>
          <p:nvPr/>
        </p:nvSpPr>
        <p:spPr>
          <a:xfrm>
            <a:off x="250920" y="3822840"/>
            <a:ext cx="8858160" cy="2592360"/>
          </a:xfrm>
          <a:prstGeom prst="roundRect">
            <a:avLst>
              <a:gd name="adj" fmla="val 1666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59" name="그룹 6"/>
          <p:cNvGrpSpPr/>
          <p:nvPr/>
        </p:nvGrpSpPr>
        <p:grpSpPr>
          <a:xfrm>
            <a:off x="214200" y="189000"/>
            <a:ext cx="8929800" cy="3057480"/>
            <a:chOff x="214200" y="189000"/>
            <a:chExt cx="8929800" cy="3057480"/>
          </a:xfrm>
        </p:grpSpPr>
        <p:sp>
          <p:nvSpPr>
            <p:cNvPr id="660" name="AutoShape 2"/>
            <p:cNvSpPr/>
            <p:nvPr/>
          </p:nvSpPr>
          <p:spPr>
            <a:xfrm>
              <a:off x="214200" y="740160"/>
              <a:ext cx="8858520" cy="2424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61" name="그룹 10"/>
            <p:cNvGrpSpPr/>
            <p:nvPr/>
          </p:nvGrpSpPr>
          <p:grpSpPr>
            <a:xfrm>
              <a:off x="285480" y="189000"/>
              <a:ext cx="8858520" cy="3057480"/>
              <a:chOff x="285480" y="189000"/>
              <a:chExt cx="8858520" cy="3057480"/>
            </a:xfrm>
          </p:grpSpPr>
          <p:sp>
            <p:nvSpPr>
              <p:cNvPr id="662" name="AutoShape 4"/>
              <p:cNvSpPr/>
              <p:nvPr/>
            </p:nvSpPr>
            <p:spPr>
              <a:xfrm>
                <a:off x="356760" y="189000"/>
                <a:ext cx="3816360" cy="519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6) 2000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년대</a:t>
                </a: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3" name="Text Box 6"/>
              <p:cNvSpPr/>
              <p:nvPr/>
            </p:nvSpPr>
            <p:spPr>
              <a:xfrm>
                <a:off x="285480" y="907920"/>
                <a:ext cx="8858520" cy="233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300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제도의 변혁과 발전이 동시에 이루어진 시기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규 정책사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소득노인 식사배달사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니어클럽 운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안검진 및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안수술 지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보호전문기관 운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일자리 전담기관 운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돌봄서비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초연금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장기요양보험제도 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법률 제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출산고령사회기본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초연금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장기요양보험법 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다양한 신규 급여와 서비스가 시행되었으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초연금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장기요양보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도의 시행은 노인복지제도의 획기적 변화 유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sp>
        <p:nvSpPr>
          <p:cNvPr id="664" name="AutoShape 4"/>
          <p:cNvSpPr/>
          <p:nvPr/>
        </p:nvSpPr>
        <p:spPr>
          <a:xfrm>
            <a:off x="395280" y="3306600"/>
            <a:ext cx="3816360" cy="4096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e81e0"/>
              </a:gs>
              <a:gs pos="100000">
                <a:srgbClr val="333c68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cacac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Y강B"/>
              </a:rPr>
              <a:t>7) 2010</a:t>
            </a:r>
            <a:r>
              <a:rPr b="1" lang="ko-KR" sz="2800" spc="-1" strike="noStrike">
                <a:solidFill>
                  <a:srgbClr val="ffffff"/>
                </a:solidFill>
                <a:latin typeface="HY강B"/>
              </a:rPr>
              <a:t>년대</a:t>
            </a:r>
            <a:r>
              <a:rPr b="1" lang="en-US" sz="2800" spc="-1" strike="noStrike">
                <a:solidFill>
                  <a:srgbClr val="ffffff"/>
                </a:solidFill>
                <a:latin typeface="HY강B"/>
              </a:rPr>
              <a:t> </a:t>
            </a:r>
            <a:r>
              <a:rPr b="1" lang="ko-KR" sz="2800" spc="-1" strike="noStrike">
                <a:solidFill>
                  <a:srgbClr val="ffffff"/>
                </a:solidFill>
                <a:latin typeface="HY강B"/>
              </a:rPr>
              <a:t>이후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65" name="Text Box 6"/>
          <p:cNvSpPr/>
          <p:nvPr/>
        </p:nvSpPr>
        <p:spPr>
          <a:xfrm>
            <a:off x="322200" y="3860640"/>
            <a:ext cx="8858160" cy="24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30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a2f96"/>
                </a:solidFill>
                <a:latin typeface="HY강M"/>
                <a:ea typeface="HY강M"/>
              </a:rPr>
              <a:t>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노인복지제도의 변혁과 발전의 확대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새로운 노인문제와 복지실천에 대한 관심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법률 제정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: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자살예방법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치매관리법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기초연금법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고독사 예방법 등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노인복지 중장기발전계획 시행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노인복지 재정 및 전달체계 확대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지방정부의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  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독자적 노인복지정책 추진 등이 이루어지고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치매국가책임제 시행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노인 인권보호 조치 강화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독거노인 자살 및 고독사 예방 개입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생산적이고 활기찬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  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노화의 촉진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지역돌봄체계의 구축 등을 위한 정책 강화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향후 재정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인력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시설 등의 확충과 서비스의 양과 질 제고 노력 필요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그룹 8"/>
          <p:cNvGrpSpPr/>
          <p:nvPr/>
        </p:nvGrpSpPr>
        <p:grpSpPr>
          <a:xfrm>
            <a:off x="0" y="0"/>
            <a:ext cx="9358200" cy="6638760"/>
            <a:chOff x="0" y="0"/>
            <a:chExt cx="9358200" cy="6638760"/>
          </a:xfrm>
        </p:grpSpPr>
        <p:pic>
          <p:nvPicPr>
            <p:cNvPr id="667" name="Picture 2" descr="C:\DOCUME~1\USER\LOCALS~1\Temp\UNI00000f5434d5.gif"/>
            <p:cNvPicPr/>
            <p:nvPr/>
          </p:nvPicPr>
          <p:blipFill>
            <a:blip r:embed="rId1"/>
            <a:stretch/>
          </p:blipFill>
          <p:spPr>
            <a:xfrm>
              <a:off x="571320" y="5286240"/>
              <a:ext cx="3071880" cy="135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그림 3" descr="title.jp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9" name="Rectangle 2"/>
            <p:cNvSpPr/>
            <p:nvPr/>
          </p:nvSpPr>
          <p:spPr>
            <a:xfrm>
              <a:off x="1571400" y="14256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인복지정책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0" name="AutoShape 2"/>
            <p:cNvSpPr/>
            <p:nvPr/>
          </p:nvSpPr>
          <p:spPr>
            <a:xfrm>
              <a:off x="428400" y="2244600"/>
              <a:ext cx="8429760" cy="3041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1" name="AutoShape 4"/>
            <p:cNvSpPr/>
            <p:nvPr/>
          </p:nvSpPr>
          <p:spPr>
            <a:xfrm>
              <a:off x="500040" y="1029960"/>
              <a:ext cx="457200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노인복지정책의 기본 이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2" name="Text Box 6"/>
            <p:cNvSpPr/>
            <p:nvPr/>
          </p:nvSpPr>
          <p:spPr>
            <a:xfrm>
              <a:off x="500040" y="2315880"/>
              <a:ext cx="8501040" cy="302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책의 개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특정 목적 달성을 위한 국가나 기관이 선택한 행동원칙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계획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책의 특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d528d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정책결정의 주체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국가와 공공단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d528d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정책의 목표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공의 선 또는 국민의 복지증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d528d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정치적 과정을 거쳐 내려진 공적 결정으로 강제성을 지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d528d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문제해결을 위한 대안 중 적절하고 효율적 대안에 대한 선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정책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사회적 욕구 충족과 문제해결을 위한 정부나 공공기관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행동원칙과 계획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3" name="직사각형 11"/>
            <p:cNvSpPr/>
            <p:nvPr/>
          </p:nvSpPr>
          <p:spPr>
            <a:xfrm>
              <a:off x="428400" y="17618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복지정책의 개념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4" name="그룹 4"/>
          <p:cNvGrpSpPr/>
          <p:nvPr/>
        </p:nvGrpSpPr>
        <p:grpSpPr>
          <a:xfrm>
            <a:off x="285840" y="146160"/>
            <a:ext cx="8572320" cy="6144120"/>
            <a:chOff x="285840" y="146160"/>
            <a:chExt cx="8572320" cy="6144120"/>
          </a:xfrm>
        </p:grpSpPr>
        <p:sp>
          <p:nvSpPr>
            <p:cNvPr id="675" name="AutoShape 2"/>
            <p:cNvSpPr/>
            <p:nvPr/>
          </p:nvSpPr>
          <p:spPr>
            <a:xfrm>
              <a:off x="285840" y="554040"/>
              <a:ext cx="8572320" cy="5732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6" name="Text Box 6"/>
            <p:cNvSpPr/>
            <p:nvPr/>
          </p:nvSpPr>
          <p:spPr>
            <a:xfrm>
              <a:off x="500040" y="571320"/>
              <a:ext cx="8358120" cy="57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정책의 구성요소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목표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복지의 목표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) +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수단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법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계획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자원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) +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주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부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공공기관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)/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대상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)+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결과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의 삶의 변화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정책은 노인욕구충족과 문제해결의 합리적 대안이지만</a:t>
              </a: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치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적 조정과 타협의 산물이며</a:t>
              </a: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제한된 자원으로 인하여 정책형성과정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서 변형될 수 있음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0-3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정책의제 선택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다양한 욕구와 문제 중에서 정책에서 다루어야 할 몇 가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문제를 선택하는 단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정책대안 형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문제 해결에 활용 가능한 정책대안 개발하고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가장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바람직한 대안을 선별하고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대안간의 장단점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비용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효과 비교분석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정책결정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목표 달성을 위해 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2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개 이상의 대안 중에서 하나의 대안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선택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이때 사회적 자원과 정치적 구조라는 제약요인 때문에 결정된 대안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‘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가장 합리적인 대안’이 아니라 ‘가장 적절한 대안’이 될 수밖에 없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정책집행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프로그램이나 서비스를 개발하고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필요한 자원의 동원과 조직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등을 통하여 정책을 보다 구체화하고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이를 실천하는 단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정책평가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목표달성의 효과성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효율성에 대한 평가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형성과정 평가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평가에 근거한 정책 확대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수정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변경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종결 여부의 결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7" name="직사각형 3"/>
            <p:cNvSpPr/>
            <p:nvPr/>
          </p:nvSpPr>
          <p:spPr>
            <a:xfrm>
              <a:off x="428400" y="146160"/>
              <a:ext cx="62150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c00000"/>
                  </a:solidFill>
                  <a:latin typeface="Arial"/>
                </a:rPr>
                <a:t>   </a:t>
              </a:r>
              <a:r>
                <a:rPr b="1" lang="ko-KR" sz="2400" spc="-1" strike="noStrike">
                  <a:solidFill>
                    <a:srgbClr val="c00000"/>
                  </a:solidFill>
                  <a:latin typeface="Arial"/>
                </a:rPr>
                <a:t>노인복지정책의 구성요소와 형성과정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그룹 4"/>
          <p:cNvGrpSpPr/>
          <p:nvPr/>
        </p:nvGrpSpPr>
        <p:grpSpPr>
          <a:xfrm>
            <a:off x="285840" y="119160"/>
            <a:ext cx="8715240" cy="6167160"/>
            <a:chOff x="285840" y="119160"/>
            <a:chExt cx="8715240" cy="6167160"/>
          </a:xfrm>
        </p:grpSpPr>
        <p:sp>
          <p:nvSpPr>
            <p:cNvPr id="679" name="AutoShape 2"/>
            <p:cNvSpPr/>
            <p:nvPr/>
          </p:nvSpPr>
          <p:spPr>
            <a:xfrm>
              <a:off x="285840" y="554040"/>
              <a:ext cx="8715240" cy="5732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0" name="Text Box 6"/>
            <p:cNvSpPr/>
            <p:nvPr/>
          </p:nvSpPr>
          <p:spPr>
            <a:xfrm>
              <a:off x="428400" y="714240"/>
              <a:ext cx="8358120" cy="55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목적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원칙인 정책이 정책대상에게 전달되기 위해서는 정책집행단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서 프로그램이나 서비스로 변형되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때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‘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배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급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재정’의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4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지 영역에서 가치선택 필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배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allocation)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누구에게 급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수급 자격을 줄 것인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?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서비스 수급 자격요건을 결정하기 위해서는 노인욕구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기여와 손상에 대한 보상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수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전문가판단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자산상태를 고려해야 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또한 평등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/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평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선별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/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보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비용효과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/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적 효과 중 어떤 가치를 중시할 것인지를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결정해야 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급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benefit)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어떤 서비스나 급여를 제공할 것인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?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권력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서비스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현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현물 중에서 급여형태 결정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수급자 선택권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vs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통제목적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적정 수준의 결정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동일급여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vs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능력에 따른 급여와      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관련된 가치결정을 해야 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delivery)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어떤 방법으로 서비스를 제공할 것인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?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중앙집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-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방분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급여나 서비스 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급여제공장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제공자의 전문성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전달체계간의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협력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공과 민간의 역할분담 고려 결정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재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finance)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에 필요한 자원을 어떻게 마련할 것인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?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수급자 부담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민간모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보험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조세 등의 자원마련방안 중에서 하나 또는 그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이상의 방법 동시 활용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1" name="직사각형 3"/>
            <p:cNvSpPr/>
            <p:nvPr/>
          </p:nvSpPr>
          <p:spPr>
            <a:xfrm>
              <a:off x="285840" y="119160"/>
              <a:ext cx="621504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20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1" lang="ko-KR" sz="2600" spc="-1" strike="noStrike">
                  <a:solidFill>
                    <a:srgbClr val="c00000"/>
                  </a:solidFill>
                  <a:latin typeface="Arial"/>
                </a:rPr>
                <a:t>노인복지정책의 선택 차원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2" name="그룹 8"/>
          <p:cNvGrpSpPr/>
          <p:nvPr/>
        </p:nvGrpSpPr>
        <p:grpSpPr>
          <a:xfrm>
            <a:off x="285840" y="71280"/>
            <a:ext cx="8643960" cy="5889960"/>
            <a:chOff x="285840" y="71280"/>
            <a:chExt cx="8643960" cy="5889960"/>
          </a:xfrm>
        </p:grpSpPr>
        <p:grpSp>
          <p:nvGrpSpPr>
            <p:cNvPr id="683" name="그룹 22"/>
            <p:cNvGrpSpPr/>
            <p:nvPr/>
          </p:nvGrpSpPr>
          <p:grpSpPr>
            <a:xfrm>
              <a:off x="285840" y="785520"/>
              <a:ext cx="8643960" cy="5175720"/>
              <a:chOff x="285840" y="785520"/>
              <a:chExt cx="8643960" cy="5175720"/>
            </a:xfrm>
          </p:grpSpPr>
          <p:sp>
            <p:nvSpPr>
              <p:cNvPr id="684" name="AutoShape 2"/>
              <p:cNvSpPr/>
              <p:nvPr/>
            </p:nvSpPr>
            <p:spPr>
              <a:xfrm>
                <a:off x="285840" y="785520"/>
                <a:ext cx="8643960" cy="5175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5" name="Text Box 6"/>
              <p:cNvSpPr/>
              <p:nvPr/>
            </p:nvSpPr>
            <p:spPr>
              <a:xfrm>
                <a:off x="357120" y="1039320"/>
                <a:ext cx="8572680" cy="40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정책의 접근방법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정 인구중심 접근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문제중심 접근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문제중심접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빈곤 → 소득보장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거보장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질병 → 건강보장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소독과 소외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무위 → 고용보장과 사회적 서비스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세부 정책내용은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11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장 참조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000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년대 초반까지 노인복지사업이 빠르게 확충되었으나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최소대상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최소비용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최저서비스의 속성을 지니고 있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출산고령사회기본계획 수립 및 시행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차 새로마지플랜 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010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후소득보장체계 강화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건강하고 보호받는 노후생활     보장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후준비와 사회참여 기반 조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령친화 생활환경 조성 추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차 새로마지플랜 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015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안정적 노후소득 보장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건강수명 연장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적극적 노년의 삶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안전하고 편리한 생활 추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차 브릿지 플랜 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020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생산적이고 활기찬 고령사회를 위한 노후소득보장 강화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활기차고 안전한 노후실현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중고령자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외국인력 활용 확대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령친화 경제로의 도약 추구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86" name="AutoShape 4"/>
            <p:cNvSpPr/>
            <p:nvPr/>
          </p:nvSpPr>
          <p:spPr>
            <a:xfrm>
              <a:off x="357120" y="71280"/>
              <a:ext cx="6086520" cy="642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현행 노인복지정책의 방향과 특성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그룹 8"/>
          <p:cNvGrpSpPr/>
          <p:nvPr/>
        </p:nvGrpSpPr>
        <p:grpSpPr>
          <a:xfrm>
            <a:off x="285840" y="71280"/>
            <a:ext cx="8786880" cy="6542280"/>
            <a:chOff x="285840" y="71280"/>
            <a:chExt cx="8786880" cy="6542280"/>
          </a:xfrm>
        </p:grpSpPr>
        <p:grpSp>
          <p:nvGrpSpPr>
            <p:cNvPr id="688" name="그룹 12"/>
            <p:cNvGrpSpPr/>
            <p:nvPr/>
          </p:nvGrpSpPr>
          <p:grpSpPr>
            <a:xfrm>
              <a:off x="1500120" y="5715000"/>
              <a:ext cx="7572600" cy="898560"/>
              <a:chOff x="1500120" y="5715000"/>
              <a:chExt cx="7572600" cy="898560"/>
            </a:xfrm>
          </p:grpSpPr>
          <p:pic>
            <p:nvPicPr>
              <p:cNvPr id="689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1500120" y="5715000"/>
                <a:ext cx="100008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0" name="Rectangle 4"/>
              <p:cNvSpPr/>
              <p:nvPr/>
            </p:nvSpPr>
            <p:spPr>
              <a:xfrm>
                <a:off x="2357280" y="5898960"/>
                <a:ext cx="671544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1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현행 노인복지정책과 서비스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91" name="그룹 22"/>
            <p:cNvGrpSpPr/>
            <p:nvPr/>
          </p:nvGrpSpPr>
          <p:grpSpPr>
            <a:xfrm>
              <a:off x="285840" y="785520"/>
              <a:ext cx="8644320" cy="4929480"/>
              <a:chOff x="285840" y="785520"/>
              <a:chExt cx="8644320" cy="4929480"/>
            </a:xfrm>
          </p:grpSpPr>
          <p:sp>
            <p:nvSpPr>
              <p:cNvPr id="692" name="AutoShape 2"/>
              <p:cNvSpPr/>
              <p:nvPr/>
            </p:nvSpPr>
            <p:spPr>
              <a:xfrm>
                <a:off x="285840" y="785520"/>
                <a:ext cx="8644320" cy="49294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3" name="Text Box 6"/>
              <p:cNvSpPr/>
              <p:nvPr/>
            </p:nvSpPr>
            <p:spPr>
              <a:xfrm>
                <a:off x="357120" y="1055160"/>
                <a:ext cx="8573040" cy="329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 저출산고령사회 기본계획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2021-2025</a:t>
                </a:r>
                <a:r>
                  <a:rPr b="0" lang="en-US" sz="1800" spc="-1" strike="noStrike">
                    <a:solidFill>
                      <a:srgbClr val="0070c0"/>
                    </a:solidFill>
                    <a:latin typeface="HY강M"/>
                    <a:ea typeface="HY강M"/>
                  </a:rPr>
                  <a:t>)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10-4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정책목표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건강하고 능동적인 고령사회 구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정책방향과 과제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세부 추진과제는 교재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82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소득공백 없는 노후생활보장 체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예방적 보건의료서비스 확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지역사회 계속 거주를 위한 통합적 돌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령친화적 주거환경 조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존엄한 삶의 마무리 지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94" name="AutoShape 4"/>
            <p:cNvSpPr/>
            <p:nvPr/>
          </p:nvSpPr>
          <p:spPr>
            <a:xfrm>
              <a:off x="357120" y="71280"/>
              <a:ext cx="5400720" cy="642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현행 노인복지정책의 개요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55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53" name="Line 9"/>
          <p:cNvSpPr/>
          <p:nvPr/>
        </p:nvSpPr>
        <p:spPr>
          <a:xfrm flipV="1">
            <a:off x="0" y="3428640"/>
            <a:ext cx="85716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Line 12"/>
          <p:cNvSpPr/>
          <p:nvPr/>
        </p:nvSpPr>
        <p:spPr>
          <a:xfrm>
            <a:off x="0" y="4071960"/>
            <a:ext cx="928800" cy="4287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5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6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7" name="Group 44"/>
          <p:cNvGrpSpPr/>
          <p:nvPr/>
        </p:nvGrpSpPr>
        <p:grpSpPr>
          <a:xfrm>
            <a:off x="642960" y="2097000"/>
            <a:ext cx="8199360" cy="3543840"/>
            <a:chOff x="642960" y="2097000"/>
            <a:chExt cx="8199360" cy="3543840"/>
          </a:xfrm>
        </p:grpSpPr>
        <p:sp>
          <p:nvSpPr>
            <p:cNvPr id="558" name="AutoShape 4"/>
            <p:cNvSpPr/>
            <p:nvPr/>
          </p:nvSpPr>
          <p:spPr>
            <a:xfrm>
              <a:off x="1622520" y="2097000"/>
              <a:ext cx="7199280" cy="6706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노인복지의 개념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목적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원칙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9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560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2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3" name="Text Box 18"/>
              <p:cNvSpPr/>
              <p:nvPr/>
            </p:nvSpPr>
            <p:spPr>
              <a:xfrm>
                <a:off x="642960" y="21225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4" name="Group 14"/>
            <p:cNvGrpSpPr/>
            <p:nvPr/>
          </p:nvGrpSpPr>
          <p:grpSpPr>
            <a:xfrm>
              <a:off x="642960" y="3053160"/>
              <a:ext cx="856800" cy="714600"/>
              <a:chOff x="642960" y="3053160"/>
              <a:chExt cx="856800" cy="714600"/>
            </a:xfrm>
          </p:grpSpPr>
          <p:sp>
            <p:nvSpPr>
              <p:cNvPr id="565" name="Oval 15"/>
              <p:cNvSpPr/>
              <p:nvPr/>
            </p:nvSpPr>
            <p:spPr>
              <a:xfrm>
                <a:off x="664200" y="3053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6" name="Oval 16"/>
              <p:cNvSpPr/>
              <p:nvPr/>
            </p:nvSpPr>
            <p:spPr>
              <a:xfrm>
                <a:off x="664200" y="3054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7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057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8" name="Text Box 18"/>
              <p:cNvSpPr/>
              <p:nvPr/>
            </p:nvSpPr>
            <p:spPr>
              <a:xfrm>
                <a:off x="642960" y="30571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9" name="Group 14"/>
            <p:cNvGrpSpPr/>
            <p:nvPr/>
          </p:nvGrpSpPr>
          <p:grpSpPr>
            <a:xfrm>
              <a:off x="642960" y="3991320"/>
              <a:ext cx="856800" cy="714600"/>
              <a:chOff x="642960" y="3991320"/>
              <a:chExt cx="856800" cy="714600"/>
            </a:xfrm>
          </p:grpSpPr>
          <p:sp>
            <p:nvSpPr>
              <p:cNvPr id="570" name="Oval 15"/>
              <p:cNvSpPr/>
              <p:nvPr/>
            </p:nvSpPr>
            <p:spPr>
              <a:xfrm>
                <a:off x="664200" y="3991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1" name="Oval 16"/>
              <p:cNvSpPr/>
              <p:nvPr/>
            </p:nvSpPr>
            <p:spPr>
              <a:xfrm>
                <a:off x="664200" y="39931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72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9952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3" name="Text Box 18"/>
              <p:cNvSpPr/>
              <p:nvPr/>
            </p:nvSpPr>
            <p:spPr>
              <a:xfrm>
                <a:off x="642960" y="39952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74" name="Group 14"/>
            <p:cNvGrpSpPr/>
            <p:nvPr/>
          </p:nvGrpSpPr>
          <p:grpSpPr>
            <a:xfrm>
              <a:off x="642960" y="4924800"/>
              <a:ext cx="856800" cy="716040"/>
              <a:chOff x="642960" y="4924800"/>
              <a:chExt cx="856800" cy="716040"/>
            </a:xfrm>
          </p:grpSpPr>
          <p:sp>
            <p:nvSpPr>
              <p:cNvPr id="575" name="Oval 15"/>
              <p:cNvSpPr/>
              <p:nvPr/>
            </p:nvSpPr>
            <p:spPr>
              <a:xfrm>
                <a:off x="664200" y="49248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6" name="Oval 16"/>
              <p:cNvSpPr/>
              <p:nvPr/>
            </p:nvSpPr>
            <p:spPr>
              <a:xfrm>
                <a:off x="664200" y="4928760"/>
                <a:ext cx="777600" cy="712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77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93092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8" name="Text Box 18"/>
              <p:cNvSpPr/>
              <p:nvPr/>
            </p:nvSpPr>
            <p:spPr>
              <a:xfrm>
                <a:off x="642960" y="49309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79" name="AutoShape 4"/>
            <p:cNvSpPr/>
            <p:nvPr/>
          </p:nvSpPr>
          <p:spPr>
            <a:xfrm>
              <a:off x="1643040" y="303372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노인복지 구성체계와 노인복지제도의 발달과정 이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0" name="AutoShape 4"/>
            <p:cNvSpPr/>
            <p:nvPr/>
          </p:nvSpPr>
          <p:spPr>
            <a:xfrm>
              <a:off x="1622520" y="397044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노인복지정책의 개념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구성요소 등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1" name="AutoShape 4"/>
            <p:cNvSpPr/>
            <p:nvPr/>
          </p:nvSpPr>
          <p:spPr>
            <a:xfrm>
              <a:off x="1643040" y="4907520"/>
              <a:ext cx="7199280" cy="676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현행 노인복지정책의 기본방향과 특성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82" name="AutoShape 7"/>
          <p:cNvSpPr/>
          <p:nvPr/>
        </p:nvSpPr>
        <p:spPr>
          <a:xfrm>
            <a:off x="250920" y="1353960"/>
            <a:ext cx="16063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071360" y="274680"/>
            <a:ext cx="80722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4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1" lang="ko-KR" sz="3400" spc="-1" strike="noStrike">
                <a:solidFill>
                  <a:srgbClr val="ffffff"/>
                </a:solidFill>
                <a:latin typeface="HY강B"/>
                <a:ea typeface="HY강B"/>
              </a:rPr>
              <a:t>제</a:t>
            </a:r>
            <a:r>
              <a:rPr b="1" lang="en-US" sz="3400" spc="-1" strike="noStrike">
                <a:solidFill>
                  <a:srgbClr val="ffffff"/>
                </a:solidFill>
                <a:latin typeface="HY강B"/>
                <a:ea typeface="HY강B"/>
              </a:rPr>
              <a:t>10 </a:t>
            </a:r>
            <a:r>
              <a:rPr b="1" lang="ko-KR" sz="3400" spc="-1" strike="noStrike">
                <a:solidFill>
                  <a:srgbClr val="ffffff"/>
                </a:solidFill>
                <a:latin typeface="HY강B"/>
                <a:ea typeface="HY강B"/>
              </a:rPr>
              <a:t>장 노인복지와 노인복지정책</a:t>
            </a:r>
            <a:endParaRPr b="0" lang="en-US" sz="3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4" name="그룹 10"/>
          <p:cNvGrpSpPr/>
          <p:nvPr/>
        </p:nvGrpSpPr>
        <p:grpSpPr>
          <a:xfrm>
            <a:off x="0" y="0"/>
            <a:ext cx="9144000" cy="6500880"/>
            <a:chOff x="0" y="0"/>
            <a:chExt cx="9144000" cy="6500880"/>
          </a:xfrm>
        </p:grpSpPr>
        <p:sp>
          <p:nvSpPr>
            <p:cNvPr id="585" name="AutoShape 2"/>
            <p:cNvSpPr/>
            <p:nvPr/>
          </p:nvSpPr>
          <p:spPr>
            <a:xfrm>
              <a:off x="180720" y="1285920"/>
              <a:ext cx="882036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8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노인복지의 의의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88" name="그룹 10"/>
            <p:cNvGrpSpPr/>
            <p:nvPr/>
          </p:nvGrpSpPr>
          <p:grpSpPr>
            <a:xfrm>
              <a:off x="214200" y="853920"/>
              <a:ext cx="8572680" cy="1788120"/>
              <a:chOff x="214200" y="853920"/>
              <a:chExt cx="8572680" cy="1788120"/>
            </a:xfrm>
          </p:grpSpPr>
          <p:sp>
            <p:nvSpPr>
              <p:cNvPr id="589" name="AutoShape 29"/>
              <p:cNvSpPr/>
              <p:nvPr/>
            </p:nvSpPr>
            <p:spPr>
              <a:xfrm>
                <a:off x="214200" y="853920"/>
                <a:ext cx="8572680" cy="4316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노인복지의 확대 필요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0" name="Text Box 25"/>
              <p:cNvSpPr/>
              <p:nvPr/>
            </p:nvSpPr>
            <p:spPr>
              <a:xfrm>
                <a:off x="356760" y="1282320"/>
                <a:ext cx="8215560" cy="13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미충족 욕구 및 문제의 다양화와 심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의 노인부양 및 복지기능 약화와 생산인구의 부양부담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의 삶에 부적절한 사회적 조건의 확산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 증진을 위한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적 책임 주체인 국가의 적극적 개입 부족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91" name="AutoShape 2"/>
            <p:cNvSpPr/>
            <p:nvPr/>
          </p:nvSpPr>
          <p:spPr>
            <a:xfrm>
              <a:off x="180720" y="3143160"/>
              <a:ext cx="8820360" cy="3357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2" name="Text Box 25"/>
            <p:cNvSpPr/>
            <p:nvPr/>
          </p:nvSpPr>
          <p:spPr>
            <a:xfrm>
              <a:off x="290520" y="3286080"/>
              <a:ext cx="8853480" cy="32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모든 노인들이 최저수준 이상의 생활을 유지하고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욕구 충족과 생활상의 문제를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예방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해결하며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후생활에 대한 적응과 사회통합을 이루는데 필요한 급여와 서비스를 제공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하는 공공과 민간부문의 조직적이고 전문적인 제반 활동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대상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선별적 복지─보편적 복지 중 선택에 따라 결정됨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       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그러나 의존성 노인에 한정되기 보다는 전체 노인이 대상이 되는 것이 일반적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3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체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과 가족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장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market)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국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3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목적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최저 수준 이상의 생활 유지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욕구충족과 생활문제의 예방과 해결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응과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통합의 성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37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수단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금 또는 현물 급여와 비물질적 서비스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37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복지의 방법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거시적 접근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정책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+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미시적 접근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실천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3" name="AutoShape 4"/>
            <p:cNvSpPr/>
            <p:nvPr/>
          </p:nvSpPr>
          <p:spPr>
            <a:xfrm>
              <a:off x="357120" y="2786040"/>
              <a:ext cx="34290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노인복지의 개념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그룹 9"/>
          <p:cNvGrpSpPr/>
          <p:nvPr/>
        </p:nvGrpSpPr>
        <p:grpSpPr>
          <a:xfrm>
            <a:off x="285840" y="71280"/>
            <a:ext cx="8712000" cy="6357960"/>
            <a:chOff x="285840" y="71280"/>
            <a:chExt cx="8712000" cy="6357960"/>
          </a:xfrm>
        </p:grpSpPr>
        <p:grpSp>
          <p:nvGrpSpPr>
            <p:cNvPr id="595" name="그룹 17"/>
            <p:cNvGrpSpPr/>
            <p:nvPr/>
          </p:nvGrpSpPr>
          <p:grpSpPr>
            <a:xfrm>
              <a:off x="285840" y="71280"/>
              <a:ext cx="8677080" cy="4500720"/>
              <a:chOff x="285840" y="71280"/>
              <a:chExt cx="8677080" cy="4500720"/>
            </a:xfrm>
          </p:grpSpPr>
          <p:sp>
            <p:nvSpPr>
              <p:cNvPr id="596" name="AutoShape 2"/>
              <p:cNvSpPr/>
              <p:nvPr/>
            </p:nvSpPr>
            <p:spPr>
              <a:xfrm>
                <a:off x="285840" y="499680"/>
                <a:ext cx="8605800" cy="4072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7" name="Text Box 25"/>
              <p:cNvSpPr/>
              <p:nvPr/>
            </p:nvSpPr>
            <p:spPr>
              <a:xfrm>
                <a:off x="357120" y="644400"/>
                <a:ext cx="8605800" cy="38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기본 이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헌법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4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간다운 생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법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안정된 생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아실현욕구의 충족과 사회통합의 유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목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간다운 생활의 영위 지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으로 안락한 상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well-being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삶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본적 욕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충족과 건강하고 문화적인 삶의 영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목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정된 생활유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기실현의 욕구 충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통합의 유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안정된 생활유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민적 최저 또는 최적 수준 이상의 경제생활 보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자기실현의 욕구 충족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본적 생리 욕구 충족과 안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속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존감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심리사회적 욕구 충족을 전제로 노년기의 발달과업 성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공적 노후적응 및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장욕구 충족을 위한 지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사회통합의 유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소외를 완화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류사회의 성원으로서의 지위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할 부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활동에의 적극적 참여와 사회발전에 기여할 수 있는 기회의 부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8" name="AutoShape 4"/>
              <p:cNvSpPr/>
              <p:nvPr/>
            </p:nvSpPr>
            <p:spPr>
              <a:xfrm>
                <a:off x="357120" y="71280"/>
                <a:ext cx="345600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복지의 목적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99" name="그룹 18"/>
            <p:cNvGrpSpPr/>
            <p:nvPr/>
          </p:nvGrpSpPr>
          <p:grpSpPr>
            <a:xfrm>
              <a:off x="285840" y="4643280"/>
              <a:ext cx="8712000" cy="1785960"/>
              <a:chOff x="285840" y="4643280"/>
              <a:chExt cx="8712000" cy="1785960"/>
            </a:xfrm>
          </p:grpSpPr>
          <p:sp>
            <p:nvSpPr>
              <p:cNvPr id="600" name="AutoShape 2"/>
              <p:cNvSpPr/>
              <p:nvPr/>
            </p:nvSpPr>
            <p:spPr>
              <a:xfrm>
                <a:off x="285840" y="5071680"/>
                <a:ext cx="8606520" cy="1357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1" name="Text Box 25"/>
              <p:cNvSpPr/>
              <p:nvPr/>
            </p:nvSpPr>
            <p:spPr>
              <a:xfrm>
                <a:off x="357120" y="5143320"/>
                <a:ext cx="8640720" cy="127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복지의 기본 가치를 반영하여야 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‘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을 위한 유엔원칙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991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제시된 독립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참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보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기실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존엄이라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지 원칙을 따라야 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교재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53-354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마드리드 고령화국제행동계획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002)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과 안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량강화 환경 구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2" name="AutoShape 4"/>
              <p:cNvSpPr/>
              <p:nvPr/>
            </p:nvSpPr>
            <p:spPr>
              <a:xfrm>
                <a:off x="357120" y="4643280"/>
                <a:ext cx="345600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복지의 원칙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3" name="그룹 11"/>
          <p:cNvGrpSpPr/>
          <p:nvPr/>
        </p:nvGrpSpPr>
        <p:grpSpPr>
          <a:xfrm>
            <a:off x="0" y="0"/>
            <a:ext cx="9144000" cy="6275520"/>
            <a:chOff x="0" y="0"/>
            <a:chExt cx="9144000" cy="6275520"/>
          </a:xfrm>
        </p:grpSpPr>
        <p:pic>
          <p:nvPicPr>
            <p:cNvPr id="60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복지의 구성체계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06" name="그룹 17"/>
            <p:cNvGrpSpPr/>
            <p:nvPr/>
          </p:nvGrpSpPr>
          <p:grpSpPr>
            <a:xfrm>
              <a:off x="323640" y="2565360"/>
              <a:ext cx="8606160" cy="3710160"/>
              <a:chOff x="323640" y="2565360"/>
              <a:chExt cx="8606160" cy="3710160"/>
            </a:xfrm>
          </p:grpSpPr>
          <p:sp>
            <p:nvSpPr>
              <p:cNvPr id="607" name="AutoShape 2"/>
              <p:cNvSpPr/>
              <p:nvPr/>
            </p:nvSpPr>
            <p:spPr>
              <a:xfrm>
                <a:off x="323640" y="2996640"/>
                <a:ext cx="8606160" cy="3278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8" name="Text Box 25"/>
              <p:cNvSpPr/>
              <p:nvPr/>
            </p:nvSpPr>
            <p:spPr>
              <a:xfrm>
                <a:off x="394920" y="3127320"/>
                <a:ext cx="8534880" cy="30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관련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저출산고령사회기본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초연금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장기요양보험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령친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업진흥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금보험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용상 연령차별 금지 및 고령자고용촉진에 관한 법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민기초생활보장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민건강보험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관리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택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거급여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생교육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독사 예방법 등 다양하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법인 노인복지법이 기본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제정 노인복지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1981)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의 당위성을 제시하였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복지를 권리보다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선적 시혜로 간주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복지보다 경제성장을 우선시 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개입을 최소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과 가족의 책임을 중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법의 개정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법 제정 후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62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차례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 중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의 전문 개정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수의 일부 개정으로 노인복지 급여와 서비스 확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0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장기요양보험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관리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초연금법 제정으로 노인복지 획기적 변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9" name="AutoShape 4"/>
              <p:cNvSpPr/>
              <p:nvPr/>
            </p:nvSpPr>
            <p:spPr>
              <a:xfrm>
                <a:off x="394920" y="2565360"/>
                <a:ext cx="3819600" cy="436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노인복지의 법적 기반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10" name="그룹 22"/>
            <p:cNvGrpSpPr/>
            <p:nvPr/>
          </p:nvGrpSpPr>
          <p:grpSpPr>
            <a:xfrm>
              <a:off x="285480" y="947520"/>
              <a:ext cx="8643960" cy="1552680"/>
              <a:chOff x="285480" y="947520"/>
              <a:chExt cx="8643960" cy="1552680"/>
            </a:xfrm>
          </p:grpSpPr>
          <p:sp>
            <p:nvSpPr>
              <p:cNvPr id="611" name="AutoShape 2"/>
              <p:cNvSpPr/>
              <p:nvPr/>
            </p:nvSpPr>
            <p:spPr>
              <a:xfrm>
                <a:off x="285480" y="1428480"/>
                <a:ext cx="8643960" cy="1071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2" name="Text Box 6"/>
              <p:cNvSpPr/>
              <p:nvPr/>
            </p:nvSpPr>
            <p:spPr>
              <a:xfrm>
                <a:off x="356760" y="1428480"/>
                <a:ext cx="8572680" cy="101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목적과 가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원칙 ＋ 노인복지의 대상체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에서 논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＋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주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과 가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＋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행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재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인력 등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제도체계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＋ 노인복지의 방법체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실천에서 추후 논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3" name="직사각형 18"/>
              <p:cNvSpPr/>
              <p:nvPr/>
            </p:nvSpPr>
            <p:spPr>
              <a:xfrm>
                <a:off x="285480" y="947520"/>
                <a:ext cx="621504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노인복지의 구성체계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4" name="그룹 11"/>
          <p:cNvGrpSpPr/>
          <p:nvPr/>
        </p:nvGrpSpPr>
        <p:grpSpPr>
          <a:xfrm>
            <a:off x="0" y="0"/>
            <a:ext cx="9144000" cy="6377040"/>
            <a:chOff x="0" y="0"/>
            <a:chExt cx="9144000" cy="6377040"/>
          </a:xfrm>
        </p:grpSpPr>
        <p:pic>
          <p:nvPicPr>
            <p:cNvPr id="615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복지의 구성체계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17" name="그룹 17"/>
            <p:cNvGrpSpPr/>
            <p:nvPr/>
          </p:nvGrpSpPr>
          <p:grpSpPr>
            <a:xfrm>
              <a:off x="179280" y="980640"/>
              <a:ext cx="8750520" cy="5396400"/>
              <a:chOff x="179280" y="980640"/>
              <a:chExt cx="8750520" cy="5396400"/>
            </a:xfrm>
          </p:grpSpPr>
          <p:sp>
            <p:nvSpPr>
              <p:cNvPr id="618" name="AutoShape 2"/>
              <p:cNvSpPr/>
              <p:nvPr/>
            </p:nvSpPr>
            <p:spPr>
              <a:xfrm>
                <a:off x="179280" y="1416960"/>
                <a:ext cx="8750520" cy="4960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9" name="Text Box 25"/>
              <p:cNvSpPr/>
              <p:nvPr/>
            </p:nvSpPr>
            <p:spPr>
              <a:xfrm>
                <a:off x="394920" y="1556640"/>
                <a:ext cx="8534880" cy="47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현행 노인복지법의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공적 노화 촉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권관점의 정책과 실천 등의 최근 노인복지동향의 미반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서비스 수급자 중심주의가 아닌 공급자 중심주의에 근거한 법체계로서 노인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영역별 욕구와 문제해결에 필요한 조치를 충분히 포괄하지 못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초연금법 등의 타법 제정으로 관련 조문이 삭제되어 노인복지제도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본법으로서의 성격을 갖추지 못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현행 노인복지사업을 충분히 담지 못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새로운 노인문제에 대한 선제적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응방안 마련의 근거 조항 미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법의 구성체계 혼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노인복지법 개정의 방향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인권관점 정책과 실천 등의 최신 노인복지 동향 반영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생활영역별 편제 또는 수급자 중심주의 강화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지역사회 돌봄을 중시하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정책 기본 방향 제시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현행 노인복지 급여와 서비스의 법적 기반 확보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혼란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법령체계의 정비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제도의 기본법으로서의 성격 강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0" name="AutoShape 4"/>
              <p:cNvSpPr/>
              <p:nvPr/>
            </p:nvSpPr>
            <p:spPr>
              <a:xfrm>
                <a:off x="250560" y="980640"/>
                <a:ext cx="3819600" cy="436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노인복지의 법적 기반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그룹 6"/>
          <p:cNvGrpSpPr/>
          <p:nvPr/>
        </p:nvGrpSpPr>
        <p:grpSpPr>
          <a:xfrm>
            <a:off x="285840" y="214200"/>
            <a:ext cx="8858160" cy="6195960"/>
            <a:chOff x="285840" y="214200"/>
            <a:chExt cx="8858160" cy="6195960"/>
          </a:xfrm>
        </p:grpSpPr>
        <p:pic>
          <p:nvPicPr>
            <p:cNvPr id="622" name="Picture 2" descr="C:\DOCUME~1\USER\LOCALS~1\Temp\UNI000005b02efc.gif"/>
            <p:cNvPicPr/>
            <p:nvPr/>
          </p:nvPicPr>
          <p:blipFill>
            <a:blip r:embed="rId1"/>
            <a:stretch/>
          </p:blipFill>
          <p:spPr>
            <a:xfrm>
              <a:off x="7020360" y="5367600"/>
              <a:ext cx="2123640" cy="104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AutoShape 2"/>
            <p:cNvSpPr/>
            <p:nvPr/>
          </p:nvSpPr>
          <p:spPr>
            <a:xfrm>
              <a:off x="285840" y="642600"/>
              <a:ext cx="8715600" cy="545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24" name="그룹 10"/>
            <p:cNvGrpSpPr/>
            <p:nvPr/>
          </p:nvGrpSpPr>
          <p:grpSpPr>
            <a:xfrm>
              <a:off x="285840" y="214200"/>
              <a:ext cx="8501040" cy="5676840"/>
              <a:chOff x="285840" y="214200"/>
              <a:chExt cx="8501040" cy="5676840"/>
            </a:xfrm>
          </p:grpSpPr>
          <p:sp>
            <p:nvSpPr>
              <p:cNvPr id="625" name="AutoShape 4"/>
              <p:cNvSpPr/>
              <p:nvPr/>
            </p:nvSpPr>
            <p:spPr>
              <a:xfrm>
                <a:off x="357120" y="214200"/>
                <a:ext cx="428616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600" spc="-1" strike="noStrike">
                    <a:solidFill>
                      <a:srgbClr val="ffffff"/>
                    </a:solidFill>
                    <a:latin typeface="HY강B"/>
                  </a:rPr>
                  <a:t>노인복지 전달체계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6" name="Text Box 6"/>
              <p:cNvSpPr/>
              <p:nvPr/>
            </p:nvSpPr>
            <p:spPr>
              <a:xfrm>
                <a:off x="285840" y="999720"/>
                <a:ext cx="8501040" cy="489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적 노인복지 전달체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중앙정부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보건복지부 인구정책실→ 노인정책관 → 노인정책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지원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요양보험제도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요양보험운영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치매정책과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0-1,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0-2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광역단체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복지 담당국과 담당과의 명칭 상이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0-3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기초단체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(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국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)-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회복지담당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회복지전담공무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민간 노인복지 전달체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 시설과 기관에 따라 상이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0-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적 노인복지 전달체계의 문제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독자적 복지전달체계가 없어 일관성 있는 노인복지행정 추진에 문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중앙부처의 관련 업무 분산으로 인한 통합적 서비스 제공의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 관련 보건과 복지 전달체계의 분리로 인한 통합서비스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최일선 전담공무원의 업무과다로 인한 대인서비스 부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7" name="그룹 5"/>
          <p:cNvGrpSpPr/>
          <p:nvPr/>
        </p:nvGrpSpPr>
        <p:grpSpPr>
          <a:xfrm>
            <a:off x="285840" y="285840"/>
            <a:ext cx="8715240" cy="6072120"/>
            <a:chOff x="285840" y="285840"/>
            <a:chExt cx="8715240" cy="6072120"/>
          </a:xfrm>
        </p:grpSpPr>
        <p:sp>
          <p:nvSpPr>
            <p:cNvPr id="628" name="AutoShape 2"/>
            <p:cNvSpPr/>
            <p:nvPr/>
          </p:nvSpPr>
          <p:spPr>
            <a:xfrm>
              <a:off x="285840" y="642960"/>
              <a:ext cx="8715240" cy="5715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29" name="그룹 10"/>
            <p:cNvGrpSpPr/>
            <p:nvPr/>
          </p:nvGrpSpPr>
          <p:grpSpPr>
            <a:xfrm>
              <a:off x="357120" y="285840"/>
              <a:ext cx="8501040" cy="5938200"/>
              <a:chOff x="357120" y="285840"/>
              <a:chExt cx="8501040" cy="5938200"/>
            </a:xfrm>
          </p:grpSpPr>
          <p:sp>
            <p:nvSpPr>
              <p:cNvPr id="630" name="AutoShape 4"/>
              <p:cNvSpPr/>
              <p:nvPr/>
            </p:nvSpPr>
            <p:spPr>
              <a:xfrm>
                <a:off x="357120" y="285840"/>
                <a:ext cx="428616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복지재정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1" name="Text Box 6"/>
              <p:cNvSpPr/>
              <p:nvPr/>
            </p:nvSpPr>
            <p:spPr>
              <a:xfrm>
                <a:off x="357120" y="1014480"/>
                <a:ext cx="8501040" cy="520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201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GDP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 사회복지지출 수준이 매우 낮은 상황이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 예산은 큰 폭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증액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예산액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82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억원→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,991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억원→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6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,003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억원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으로 빠르게 증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앙정부 예산 기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정부예산 중 비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82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0.01% → 202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.9%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준으로 빠르게 증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부가 부담하는 예산을 합하면 노인복지예산 규모가 더 확대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0-4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예산 구성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초연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장기요양보험이 예산의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8%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를 차지하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일자리지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6.9%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맞춤돌봄서비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2.2%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등은 비중 낮음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0-5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05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부터 지방분권화 정책에 따라 노인복지사업의 일부가 지방정부로 이양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지방분권화 정책으로 지역복지의 강화를 도모할 수 있게 되었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 예산 증액의 애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역별 노인복지의 편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방정부의 지역노인복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계획 수립과 추진능력의 한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방정부에 대한 주민 감시 및 평가기능의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많은 문제 파생 가능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2" name="그룹 11"/>
          <p:cNvGrpSpPr/>
          <p:nvPr/>
        </p:nvGrpSpPr>
        <p:grpSpPr>
          <a:xfrm>
            <a:off x="0" y="0"/>
            <a:ext cx="9358200" cy="6412680"/>
            <a:chOff x="0" y="0"/>
            <a:chExt cx="9358200" cy="6412680"/>
          </a:xfrm>
        </p:grpSpPr>
        <p:sp>
          <p:nvSpPr>
            <p:cNvPr id="633" name="AutoShape 2"/>
            <p:cNvSpPr/>
            <p:nvPr/>
          </p:nvSpPr>
          <p:spPr>
            <a:xfrm>
              <a:off x="285480" y="1143000"/>
              <a:ext cx="8715600" cy="2571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3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3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인복지의 발달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36" name="그룹 10"/>
            <p:cNvGrpSpPr/>
            <p:nvPr/>
          </p:nvGrpSpPr>
          <p:grpSpPr>
            <a:xfrm>
              <a:off x="285480" y="785520"/>
              <a:ext cx="8572680" cy="2908080"/>
              <a:chOff x="285480" y="785520"/>
              <a:chExt cx="8572680" cy="2908080"/>
            </a:xfrm>
          </p:grpSpPr>
          <p:sp>
            <p:nvSpPr>
              <p:cNvPr id="637" name="AutoShape 4"/>
              <p:cNvSpPr/>
              <p:nvPr/>
            </p:nvSpPr>
            <p:spPr>
              <a:xfrm>
                <a:off x="356760" y="785520"/>
                <a:ext cx="3816360" cy="502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삼국시대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-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조선시대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8" name="Text Box 6"/>
              <p:cNvSpPr/>
              <p:nvPr/>
            </p:nvSpPr>
            <p:spPr>
              <a:xfrm>
                <a:off x="285480" y="1335960"/>
                <a:ext cx="8572680" cy="235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왕의 인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仁政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 의한 자선적이고 선별적인 권위적 주제와 구휼 주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삼국시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과고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鰥寡孤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 주요 대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로연이나 효자 표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고려시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불교의 자비사상에 의한 구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호사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928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home helper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효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서대비원에서의 의료구제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조선시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교의 경로효친에 근거 부양자 없는 노인과 양반 관리자에 시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로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1394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로시설 효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민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1403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의무탁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로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1425,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운영 법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사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1451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년퇴직제도 효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39" name="AutoShape 2"/>
            <p:cNvSpPr/>
            <p:nvPr/>
          </p:nvSpPr>
          <p:spPr>
            <a:xfrm>
              <a:off x="285480" y="4262760"/>
              <a:ext cx="8715600" cy="20955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40" name="그룹 10"/>
            <p:cNvGrpSpPr/>
            <p:nvPr/>
          </p:nvGrpSpPr>
          <p:grpSpPr>
            <a:xfrm>
              <a:off x="285480" y="3857760"/>
              <a:ext cx="8572680" cy="2554920"/>
              <a:chOff x="285480" y="3857760"/>
              <a:chExt cx="8572680" cy="2554920"/>
            </a:xfrm>
          </p:grpSpPr>
          <p:sp>
            <p:nvSpPr>
              <p:cNvPr id="641" name="AutoShape 4"/>
              <p:cNvSpPr/>
              <p:nvPr/>
            </p:nvSpPr>
            <p:spPr>
              <a:xfrm>
                <a:off x="356760" y="3857760"/>
                <a:ext cx="3816360" cy="502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일제시대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-1950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년대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42" name="Text Box 6"/>
              <p:cNvSpPr/>
              <p:nvPr/>
            </p:nvSpPr>
            <p:spPr>
              <a:xfrm>
                <a:off x="285480" y="4451400"/>
                <a:ext cx="8572680" cy="196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일제시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식민통치 반발 무마를 위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빈민구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총독부내에 사회과 설치하여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보호업무 관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192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최초 양로시설 설립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1944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조선구호령 공포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5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상 극빈 및 무의탁 노인 보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해방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-1950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년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쟁고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피난민 등에 대한 응급구호사업에 주력하여 노인복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는 상대적 위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1948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헌법에 노인의 생존권 보장 명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1959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노인복지시설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소 운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1:45:58Z</dcterms:modified>
  <cp:revision>324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